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1.wmf" ContentType="image/x-wmf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6.jpeg" ContentType="image/jpeg"/>
  <Override PartName="/ppt/media/image9.wmf" ContentType="image/x-wmf"/>
  <Override PartName="/ppt/media/image14.png" ContentType="image/png"/>
  <Override PartName="/ppt/media/image23.wmf" ContentType="image/x-wmf"/>
  <Override PartName="/ppt/media/image18.jpeg" ContentType="image/jpeg"/>
  <Override PartName="/ppt/media/image22.wmf" ContentType="image/x-wmf"/>
  <Override PartName="/ppt/media/image21.jpeg" ContentType="image/jpeg"/>
  <Override PartName="/ppt/media/image16.jpeg" ContentType="image/jpeg"/>
  <Override PartName="/ppt/media/image19.jpeg" ContentType="image/jpeg"/>
  <Override PartName="/ppt/media/image17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666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1120B6-CFA7-4928-872C-E872EDD30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86FB46-BE8E-4ECA-BF69-17FA7CDF5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FCFAEF-50E5-4881-AE1C-65C8458BB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4DD431-48EF-42CB-852F-9B25D8015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6890B9-2661-456B-A2DB-853D369A3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10AAFF-B91A-42E9-B744-5524FDE7A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8986ED-4D9C-49AA-AA7E-972C9947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87F1E1-A6F9-44E8-AA88-300242AC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CCA2D0-898F-4B1A-B36C-843AAFEA5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290339-8D42-4110-A965-6BCBA1F81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AADA65-5147-4F53-9E42-3229F4922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6B3522-6914-4A15-B79E-B394C5E7D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67648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63680" y="1542960"/>
            <a:ext cx="638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63680" y="1542960"/>
            <a:ext cx="62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63680" y="1371600"/>
            <a:ext cx="6219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" name="strapline" descr="catch the light"/>
          <p:cNvPicPr/>
          <p:nvPr/>
        </p:nvPicPr>
        <p:blipFill>
          <a:blip r:embed="rId2"/>
          <a:stretch/>
        </p:blipFill>
        <p:spPr>
          <a:xfrm>
            <a:off x="6853320" y="0"/>
            <a:ext cx="2079720" cy="628560"/>
          </a:xfrm>
          <a:prstGeom prst="rect">
            <a:avLst/>
          </a:prstGeom>
          <a:ln w="0">
            <a:noFill/>
          </a:ln>
        </p:spPr>
      </p:pic>
      <p:pic>
        <p:nvPicPr>
          <p:cNvPr id="5" name="logo" descr="electron tubes"/>
          <p:cNvPicPr/>
          <p:nvPr/>
        </p:nvPicPr>
        <p:blipFill>
          <a:blip r:embed="rId3"/>
          <a:stretch/>
        </p:blipFill>
        <p:spPr>
          <a:xfrm>
            <a:off x="7504200" y="6205680"/>
            <a:ext cx="1839960" cy="628560"/>
          </a:xfrm>
          <a:prstGeom prst="rect">
            <a:avLst/>
          </a:prstGeom>
          <a:ln w="0">
            <a:noFill/>
          </a:ln>
        </p:spPr>
      </p:pic>
      <p:pic>
        <p:nvPicPr>
          <p:cNvPr id="6" name="narrow_GraphicStrip_yellow" descr="electron tubes"/>
          <p:cNvPicPr/>
          <p:nvPr/>
        </p:nvPicPr>
        <p:blipFill>
          <a:blip r:embed="rId4"/>
          <a:stretch/>
        </p:blipFill>
        <p:spPr>
          <a:xfrm>
            <a:off x="0" y="585720"/>
            <a:ext cx="9144000" cy="51444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3" marL="1428840" indent="-228600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1771560" indent="-22860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771560" indent="-22860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771560" indent="-22860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46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48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6" name="PlaceHolder 1"/>
          <p:cNvSpPr>
            <a:spLocks noGrp="1"/>
          </p:cNvSpPr>
          <p:nvPr>
            <p:ph type="dt" idx="2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ftr" idx="3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Num" idx="4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E4FD4-5970-4955-86CE-82C52FB446B5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84320" y="5830920"/>
            <a:ext cx="5867280" cy="94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66"/>
                </a:solidFill>
                <a:latin typeface="Arial"/>
              </a:rPr>
              <a:t>NNN05</a:t>
            </a: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1600"/>
            </a:br>
            <a:r>
              <a:rPr b="1" lang="en-GB" sz="1600" spc="-1" strike="noStrike">
                <a:solidFill>
                  <a:srgbClr val="003366"/>
                </a:solidFill>
                <a:latin typeface="Arial"/>
              </a:rPr>
              <a:t>Next Generation of Nucleon Decay and Neutrino Detectors</a:t>
            </a:r>
            <a:br>
              <a:rPr sz="1600"/>
            </a:br>
            <a:r>
              <a:rPr b="1" lang="en-GB" sz="1600" spc="-1" strike="noStrike">
                <a:solidFill>
                  <a:srgbClr val="003366"/>
                </a:solidFill>
                <a:latin typeface="Arial"/>
              </a:rPr>
              <a:t>7-9 April 2005, Aussois, Savoie, France</a:t>
            </a:r>
            <a:br>
              <a:rPr sz="2400"/>
            </a:b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60520" y="2873520"/>
            <a:ext cx="821988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detector considerations for neutrino physic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Tony Wright, Electron Tubes Limited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974880" y="1046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98600" y="10807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power supply outlin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4" name="FIG1" descr=""/>
          <p:cNvPicPr/>
          <p:nvPr/>
        </p:nvPicPr>
        <p:blipFill>
          <a:blip r:embed="rId1"/>
          <a:stretch/>
        </p:blipFill>
        <p:spPr>
          <a:xfrm>
            <a:off x="527040" y="2077920"/>
            <a:ext cx="3041640" cy="2700360"/>
          </a:xfrm>
          <a:prstGeom prst="rect">
            <a:avLst/>
          </a:prstGeom>
          <a:ln w="0">
            <a:noFill/>
          </a:ln>
        </p:spPr>
      </p:pic>
      <p:pic>
        <p:nvPicPr>
          <p:cNvPr id="215" name="FIG2" descr=""/>
          <p:cNvPicPr/>
          <p:nvPr/>
        </p:nvPicPr>
        <p:blipFill>
          <a:blip r:embed="rId2"/>
          <a:stretch/>
        </p:blipFill>
        <p:spPr>
          <a:xfrm>
            <a:off x="3733920" y="2687760"/>
            <a:ext cx="2071440" cy="2090520"/>
          </a:xfrm>
          <a:prstGeom prst="rect">
            <a:avLst/>
          </a:prstGeom>
          <a:ln w="0">
            <a:noFill/>
          </a:ln>
        </p:spPr>
      </p:pic>
      <p:pic>
        <p:nvPicPr>
          <p:cNvPr id="216" name="FIG3" descr=""/>
          <p:cNvPicPr/>
          <p:nvPr/>
        </p:nvPicPr>
        <p:blipFill>
          <a:blip r:embed="rId3"/>
          <a:srcRect l="0" t="0" r="50446" b="0"/>
          <a:stretch/>
        </p:blipFill>
        <p:spPr>
          <a:xfrm>
            <a:off x="6378480" y="1955880"/>
            <a:ext cx="1076400" cy="39463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942840" y="5270400"/>
            <a:ext cx="243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PS1800/PS1806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384800" y="5270400"/>
            <a:ext cx="142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PS2010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35760" y="5888160"/>
            <a:ext cx="129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PS2001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25440" y="1465200"/>
            <a:ext cx="76248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optimising photomultiplier performance with low power consumption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52080" y="2538000"/>
            <a:ext cx="5962680" cy="260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battery operate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solar powered (Auger, satellites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underwater, under ice, in liquid argon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two considerations:-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consuming power (voltage divider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providing power (HV supply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97000" y="1438200"/>
            <a:ext cx="76248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voltage divider consideration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52080" y="2538360"/>
            <a:ext cx="8193240" cy="337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Arial"/>
              </a:rPr>
              <a:t>Requirement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Arial"/>
              </a:rPr>
              <a:t>establish and maintain set of fixed dynode potential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Arial"/>
              </a:rPr>
              <a:t>there are two generic types available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Arial"/>
              </a:rPr>
              <a:t>traditional resistor configuratio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Arial"/>
              </a:rPr>
              <a:t>active type (FET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Arial"/>
              </a:rPr>
              <a:t>The all-resistor divider always fails the requirement if the mean anode current varies significantly.  Active dividers fix the dynode potentials regardless of mean anode current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1495440"/>
            <a:ext cx="7772400" cy="51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active divider network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5" name="active%20divider%20networks" descr=""/>
          <p:cNvPicPr/>
          <p:nvPr/>
        </p:nvPicPr>
        <p:blipFill>
          <a:blip r:embed="rId1"/>
          <a:stretch/>
        </p:blipFill>
        <p:spPr>
          <a:xfrm>
            <a:off x="936720" y="2066760"/>
            <a:ext cx="7813440" cy="4313520"/>
          </a:xfrm>
          <a:prstGeom prst="rect">
            <a:avLst/>
          </a:prstGeom>
          <a:ln w="0">
            <a:noFill/>
          </a:ln>
        </p:spPr>
      </p:pic>
      <p:pic>
        <p:nvPicPr>
          <p:cNvPr id="226" name="etl" descr=""/>
          <p:cNvPicPr/>
          <p:nvPr/>
        </p:nvPicPr>
        <p:blipFill>
          <a:blip r:embed="rId2"/>
          <a:stretch/>
        </p:blipFill>
        <p:spPr>
          <a:xfrm>
            <a:off x="7764480" y="6134040"/>
            <a:ext cx="100332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schematics" descr=""/>
          <p:cNvPicPr/>
          <p:nvPr/>
        </p:nvPicPr>
        <p:blipFill>
          <a:blip r:embed="rId1"/>
          <a:srcRect l="2137" t="0" r="0" b="0"/>
          <a:stretch/>
        </p:blipFill>
        <p:spPr>
          <a:xfrm>
            <a:off x="623880" y="1123920"/>
            <a:ext cx="70833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graph" descr=""/>
          <p:cNvPicPr/>
          <p:nvPr/>
        </p:nvPicPr>
        <p:blipFill>
          <a:blip r:embed="rId1"/>
          <a:stretch/>
        </p:blipFill>
        <p:spPr>
          <a:xfrm>
            <a:off x="939960" y="1776240"/>
            <a:ext cx="736884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47640" y="1426680"/>
            <a:ext cx="7772400" cy="49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power suppli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687240" y="2397240"/>
          <a:ext cx="7694640" cy="2238120"/>
        </p:xfrm>
        <a:graphic>
          <a:graphicData uri="http://schemas.openxmlformats.org/drawingml/2006/table">
            <a:tbl>
              <a:tblPr/>
              <a:tblGrid>
                <a:gridCol w="1865520"/>
                <a:gridCol w="1944360"/>
                <a:gridCol w="1941840"/>
                <a:gridCol w="19429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yp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put power (mW)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fficiency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utput current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85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S180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</a:t>
                      </a:r>
                      <a:r>
                        <a:rPr b="0" lang="en-GB" sz="16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a </a:t>
                      </a:r>
                      <a:r>
                        <a:rPr b="0" lang="en-GB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= 200 </a:t>
                      </a:r>
                      <a:r>
                        <a:rPr b="0" lang="en-GB" sz="16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GB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23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S1806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0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</a:t>
                      </a:r>
                      <a:r>
                        <a:rPr b="0" lang="en-GB" sz="16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a </a:t>
                      </a:r>
                      <a:r>
                        <a:rPr b="0" lang="en-GB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= 200 </a:t>
                      </a:r>
                      <a:r>
                        <a:rPr b="0" lang="en-GB" sz="16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GB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47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S201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4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0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</a:t>
                      </a:r>
                      <a:r>
                        <a:rPr b="0" lang="en-GB" sz="16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D0</a:t>
                      </a:r>
                      <a:r>
                        <a:rPr b="0" lang="en-GB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= 100 </a:t>
                      </a:r>
                      <a:r>
                        <a:rPr b="0" lang="en-GB" sz="16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GB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14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S200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80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0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</a:t>
                      </a:r>
                      <a:r>
                        <a:rPr b="0" lang="en-GB" sz="16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D0</a:t>
                      </a:r>
                      <a:r>
                        <a:rPr b="0" lang="en-GB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= 1000 </a:t>
                      </a:r>
                      <a:r>
                        <a:rPr b="0" lang="en-GB" sz="16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GB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68280" y="139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high voltage supply and control system – HVSys</a:t>
            </a:r>
            <a:br>
              <a:rPr sz="1800"/>
            </a:b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1832040"/>
            <a:ext cx="5962680" cy="260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multichannel power supply system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individual channel control and monitoring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RS485 interface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requires only single +12V supply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843200" y="3076560"/>
            <a:ext cx="526716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338120" y="1371600"/>
            <a:ext cx="6535800" cy="35002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1438200" y="5256360"/>
            <a:ext cx="7029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  <a:ea typeface="Arial"/>
              </a:rPr>
              <a:t>functional diagram of 1 channel.  The hardware shown is integrated within each power base enclosure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932040" y="1743120"/>
            <a:ext cx="709452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99800" y="1395000"/>
            <a:ext cx="6570360" cy="5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detector considerations for neutrino physic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2003040"/>
            <a:ext cx="7772400" cy="407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light detection: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Arial"/>
              </a:rPr>
              <a:t>large solid angle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Arial"/>
              </a:rPr>
              <a:t>large cathode area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Arial"/>
              </a:rPr>
              <a:t>long operating lif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Arial"/>
              </a:rPr>
              <a:t>high gain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Arial"/>
              </a:rPr>
              <a:t>well-resolved SER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Arial"/>
              </a:rPr>
              <a:t>fast timing and freedom from artefact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Arial"/>
              </a:rPr>
              <a:t>pressure resistan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Arial"/>
              </a:rPr>
              <a:t>chemically inert glass – free from radioisotope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low temperature operation</a:t>
            </a:r>
            <a:r>
              <a:rPr b="1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power considerations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Arial"/>
              </a:rPr>
              <a:t>high voltage supplies and contro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Arial"/>
              </a:rPr>
              <a:t>voltage divider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1" name="fastpmts" descr=""/>
          <p:cNvPicPr/>
          <p:nvPr/>
        </p:nvPicPr>
        <p:blipFill>
          <a:blip r:embed="rId1"/>
          <a:stretch/>
        </p:blipFill>
        <p:spPr>
          <a:xfrm>
            <a:off x="6335640" y="2911320"/>
            <a:ext cx="2122560" cy="1719360"/>
          </a:xfrm>
          <a:prstGeom prst="rect">
            <a:avLst/>
          </a:prstGeom>
          <a:ln w="0">
            <a:noFill/>
          </a:ln>
        </p:spPr>
      </p:pic>
      <p:pic>
        <p:nvPicPr>
          <p:cNvPr id="192" name="hemix3" descr=""/>
          <p:cNvPicPr/>
          <p:nvPr/>
        </p:nvPicPr>
        <p:blipFill>
          <a:blip r:embed="rId2"/>
          <a:stretch/>
        </p:blipFill>
        <p:spPr>
          <a:xfrm>
            <a:off x="4991040" y="1932120"/>
            <a:ext cx="1779480" cy="1935000"/>
          </a:xfrm>
          <a:prstGeom prst="rect">
            <a:avLst/>
          </a:prstGeom>
          <a:ln w="0">
            <a:noFill/>
          </a:ln>
        </p:spPr>
      </p:pic>
      <p:pic>
        <p:nvPicPr>
          <p:cNvPr id="193" name="PS1250" descr=""/>
          <p:cNvPicPr/>
          <p:nvPr/>
        </p:nvPicPr>
        <p:blipFill>
          <a:blip r:embed="rId3"/>
          <a:stretch/>
        </p:blipFill>
        <p:spPr>
          <a:xfrm>
            <a:off x="4640400" y="4413240"/>
            <a:ext cx="1236600" cy="1047600"/>
          </a:xfrm>
          <a:prstGeom prst="rect">
            <a:avLst/>
          </a:prstGeom>
          <a:ln w="0">
            <a:noFill/>
          </a:ln>
        </p:spPr>
      </p:pic>
      <p:pic>
        <p:nvPicPr>
          <p:cNvPr id="194" name="PS20101" descr=""/>
          <p:cNvPicPr/>
          <p:nvPr/>
        </p:nvPicPr>
        <p:blipFill>
          <a:blip r:embed="rId4"/>
          <a:stretch/>
        </p:blipFill>
        <p:spPr>
          <a:xfrm>
            <a:off x="5657760" y="4987800"/>
            <a:ext cx="222588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1781280" y="1884240"/>
            <a:ext cx="554976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99800" y="1395000"/>
            <a:ext cx="6570360" cy="5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detector considerations for neutrino physic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2003040"/>
            <a:ext cx="7772400" cy="407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Ron Stubberfield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ron.stubberfield@electron-tubes.co.uk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Tony Wrigh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tony.wright@electron-tubes.co.uk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available to discuss your particular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requirement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0" name="fastpmts" descr=""/>
          <p:cNvPicPr/>
          <p:nvPr/>
        </p:nvPicPr>
        <p:blipFill>
          <a:blip r:embed="rId1"/>
          <a:stretch/>
        </p:blipFill>
        <p:spPr>
          <a:xfrm>
            <a:off x="6335640" y="2911320"/>
            <a:ext cx="2122560" cy="1719360"/>
          </a:xfrm>
          <a:prstGeom prst="rect">
            <a:avLst/>
          </a:prstGeom>
          <a:ln w="0">
            <a:noFill/>
          </a:ln>
        </p:spPr>
      </p:pic>
      <p:pic>
        <p:nvPicPr>
          <p:cNvPr id="241" name="hemix3" descr=""/>
          <p:cNvPicPr/>
          <p:nvPr/>
        </p:nvPicPr>
        <p:blipFill>
          <a:blip r:embed="rId2"/>
          <a:stretch/>
        </p:blipFill>
        <p:spPr>
          <a:xfrm>
            <a:off x="4991040" y="1932120"/>
            <a:ext cx="1779480" cy="1935000"/>
          </a:xfrm>
          <a:prstGeom prst="rect">
            <a:avLst/>
          </a:prstGeom>
          <a:ln w="0">
            <a:noFill/>
          </a:ln>
        </p:spPr>
      </p:pic>
      <p:pic>
        <p:nvPicPr>
          <p:cNvPr id="242" name="PS1250" descr=""/>
          <p:cNvPicPr/>
          <p:nvPr/>
        </p:nvPicPr>
        <p:blipFill>
          <a:blip r:embed="rId3"/>
          <a:stretch/>
        </p:blipFill>
        <p:spPr>
          <a:xfrm>
            <a:off x="4640400" y="4413240"/>
            <a:ext cx="1236600" cy="1047600"/>
          </a:xfrm>
          <a:prstGeom prst="rect">
            <a:avLst/>
          </a:prstGeom>
          <a:ln w="0">
            <a:noFill/>
          </a:ln>
        </p:spPr>
      </p:pic>
      <p:pic>
        <p:nvPicPr>
          <p:cNvPr id="243" name="PS20101" descr=""/>
          <p:cNvPicPr/>
          <p:nvPr/>
        </p:nvPicPr>
        <p:blipFill>
          <a:blip r:embed="rId4"/>
          <a:stretch/>
        </p:blipFill>
        <p:spPr>
          <a:xfrm>
            <a:off x="5657760" y="4987800"/>
            <a:ext cx="222588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fastpmts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789600" y="2546280"/>
            <a:ext cx="2122560" cy="1719360"/>
          </a:xfrm>
          <a:prstGeom prst="rect">
            <a:avLst/>
          </a:prstGeom>
          <a:ln w="0">
            <a:noFill/>
          </a:ln>
        </p:spPr>
      </p:pic>
      <p:pic>
        <p:nvPicPr>
          <p:cNvPr id="196" name="hemix3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5445000" y="1566720"/>
            <a:ext cx="1779840" cy="193536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39480" y="1566720"/>
            <a:ext cx="510516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range of hemispherical photomultipliers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2161800"/>
            <a:ext cx="7772400" cy="40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Type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          d(mm)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     dynodes                 σ(τ) ns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comment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9116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25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6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1.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high light level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9114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25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1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1.2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9117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38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6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1.1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high light levels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9372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13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12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2.7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935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20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14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8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9352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20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6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6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high light level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9353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20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12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2.7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chemically iner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9354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20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12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2.7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ultra low background 5 At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9357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20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12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2.7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-200 </a:t>
            </a:r>
            <a:r>
              <a:rPr b="1" lang="en-GB" sz="1400" spc="-1" strike="noStrike" baseline="30000">
                <a:solidFill>
                  <a:srgbClr val="003366"/>
                </a:solidFill>
                <a:latin typeface="Arial"/>
                <a:ea typeface="Times New Roman"/>
              </a:rPr>
              <a:t>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C operatio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D737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23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12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2.7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D738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25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12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2.8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936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28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12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3.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09840"/>
            <a:ext cx="2739960" cy="53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glass characteristic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71640"/>
            <a:ext cx="4773600" cy="423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thickness:  ranges from 2 to 4 m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pressure:  2 to 5 atmosphere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radionuclides: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type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K(ppm)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Th(ppb)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U(ppb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8246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3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3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3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B53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6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3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3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B47.2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30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25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10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8245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140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90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110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1" name="windows4" descr=""/>
          <p:cNvPicPr/>
          <p:nvPr/>
        </p:nvPicPr>
        <p:blipFill>
          <a:blip r:embed="rId1"/>
          <a:stretch/>
        </p:blipFill>
        <p:spPr>
          <a:xfrm>
            <a:off x="6016680" y="1509840"/>
            <a:ext cx="2876400" cy="22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306000" cy="57182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4010040" y="1252440"/>
            <a:ext cx="443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single electron response SER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Lubsandorzhiev" descr=""/>
          <p:cNvPicPr/>
          <p:nvPr/>
        </p:nvPicPr>
        <p:blipFill>
          <a:blip r:embed="rId1"/>
          <a:stretch/>
        </p:blipFill>
        <p:spPr>
          <a:xfrm>
            <a:off x="2247840" y="1797120"/>
            <a:ext cx="4943520" cy="471492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84120" y="1413000"/>
            <a:ext cx="372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iming distributio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StdCathodes%20for%20AGW%20presentation" descr=""/>
          <p:cNvPicPr/>
          <p:nvPr/>
        </p:nvPicPr>
        <p:blipFill>
          <a:blip r:embed="rId1"/>
          <a:stretch/>
        </p:blipFill>
        <p:spPr>
          <a:xfrm>
            <a:off x="260280" y="1590840"/>
            <a:ext cx="16733880" cy="888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733320" y="1357200"/>
            <a:ext cx="34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life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123920" y="1925640"/>
          <a:ext cx="68961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3920" y="1925640"/>
                    <a:ext cx="68961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1200" y="1464840"/>
            <a:ext cx="5146920" cy="72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power suppli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39360" y="2517480"/>
            <a:ext cx="5962680" cy="260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CW type with n individual socket output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ctive divider with n individual output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low power dc-dc converter with single outpu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industrial dc-dc converter with single outpu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6T09:18:06Z</dcterms:created>
  <dc:creator>Giselle Lord</dc:creator>
  <dc:description/>
  <dc:language>en-US</dc:language>
  <cp:lastModifiedBy>glord</cp:lastModifiedBy>
  <cp:lastPrinted>2002-07-29T13:08:12Z</cp:lastPrinted>
  <dcterms:modified xsi:type="dcterms:W3CDTF">2005-04-05T16:03:05Z</dcterms:modified>
  <cp:revision>155</cp:revision>
  <dc:subject/>
  <dc:title>Electron Tubes Product Range</dc:title>
</cp:coreProperties>
</file>